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839-3838-4F8E-AE4D-DAB2ECC5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3BDE-336E-423E-899E-BBEE2D26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0EB-AD3A-4964-9DBB-2278F942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279-2830-4B1C-A768-F6575B3B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359D-4991-4C3A-B40A-2F94A844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2FD3-72AA-4314-B3A3-B422C5D9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3B6-EBFC-4A1D-B1F9-A9B12D4E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CBF9-81BA-468C-B831-FA9B9CC3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0B42-4628-4177-ACD5-9DF77438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21ED-644A-447B-8B56-C94344E4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B448-C55F-47CC-9FC5-0AA459CB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074F-BFF6-49CF-BACE-64A8590B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2254-A52C-4A89-BEDE-BA3EF92E4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2:40:39Z</dcterms:created>
  <dc:creator> </dc:creator>
  <dc:description/>
  <dc:language>en-US</dc:language>
  <cp:lastModifiedBy> </cp:lastModifiedBy>
  <dcterms:modified xsi:type="dcterms:W3CDTF">2008-04-04T12:41:37Z</dcterms:modified>
  <cp:revision>1</cp:revision>
  <dc:subject/>
  <dc:title>Slide 1</dc:title>
</cp:coreProperties>
</file>